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FA2-F97F-434F-AEC9-276E1BBF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B68-6A24-4AEC-BA56-D9AB83B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74A-A233-4677-9DA0-4864162F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78A-7009-4CB1-8322-5D5744B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046-840F-4ACF-8FAA-284B3F05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B54-8A46-43F6-AAE4-38934878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248-48B4-40B0-BF49-30F99040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8AD-C2EC-4695-A867-2437093B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649-7704-4CDA-9295-09C443C1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CBD-289E-4E8D-AEB6-BE79DF9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BE5-EEDB-4B94-BFD1-CB99F85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620-46BB-46AC-8EBC-CE35DE9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9ACC-94CD-4CA7-A315-D0E475A9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ic.edu/classes/bios/bios100/lectures/c4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Mechanisms of 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hway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isCO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is the most abundant protein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talyzes the first reaction of the Calvin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9600" y="19810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cess.mmhs.ca/docs/Science/MMHS%20Web%20folder/Kamla/2010200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reaction of the Calvin cycle, C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“fixed”, form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 molecules of 3-P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es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active site of RuBi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179960"/>
            <a:ext cx="77724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cess.mmhs.ca/docs/Science/MMHS%20Web%20folder/Kamla/2010200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uBP is oxidized, it produces 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2920" y="4114800"/>
            <a:ext cx="417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armer temperatures, RuBisCO’s affinity f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, resulting in les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ing fixed into G3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plants in warmer climates evolved to cope with RuBisCO’s affinity f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1-11-01T17:57:22Z</dcterms:modified>
  <cp:revision>50</cp:revision>
  <dc:subject/>
  <dc:title>Photosynthesis</dc:title>
</cp:coreProperties>
</file>